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3995-F41F-43EE-AE65-85312130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B16-A7E1-4F9A-9437-E73579D3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6D8-E120-4171-82F6-B8CFC1ED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10B-790B-4B3F-B753-48319DFA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7B0-4D98-4ED0-99E8-57B06021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0C7-D0FE-411C-92E2-1936A531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F86-59F7-402B-A4D4-5A27E8A9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2FC-59AF-46C8-8AAC-2BFB6632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F52-49DE-4995-A64C-D29EC417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C986-A48A-4D5F-AE92-31561B21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683-30BC-4C33-8ECF-E7992386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215-993E-42DD-B547-50E38514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A81B-2BDA-4861-A450-6B94F2152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 Website nee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phics, Site Navigation, and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p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thing users will s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 to break up text only monot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s page “pop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ground 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 Website Nee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Nav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be easy to f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s get bored easily and will le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not take up much space on 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 Website Nee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s and services company is se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 reviews, articles, and tuto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ll keep users coming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erlinks on home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ggested Site Improv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 of background color and grap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links on main page and Fi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 information and technology dia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ments to marketing and e-comm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04:57:29Z</dcterms:created>
  <dc:creator>Brandon</dc:creator>
  <dc:description/>
  <dc:language>en-US</dc:language>
  <cp:lastModifiedBy>Brandon</cp:lastModifiedBy>
  <dcterms:modified xsi:type="dcterms:W3CDTF">2011-04-26T05:21:37Z</dcterms:modified>
  <cp:revision>2</cp:revision>
  <dc:subject/>
  <dc:title>What a Website needs</dc:title>
</cp:coreProperties>
</file>